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098-4289-40E9-A076-A842A7BC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BA2-C0B2-4FA0-A2BC-E1E9195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14C-941D-473E-A97C-36B8758E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E06-9733-4056-86B0-109DC67F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4293A-BAD1-4106-B7CB-F047305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49D32-146A-4CF8-B973-3075563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03FB1-EDBF-4593-B02D-CA80065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C2662-6FD9-4668-8A96-1CFCE97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F9BD9-5F65-4F61-8C4D-F4EF446C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03A32-C716-4E15-A302-3A1EE2A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25724-6D8F-4143-8FAF-902866E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59A-D43F-43CE-83C4-4E5C0FB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FF15C-35E0-4520-A594-53E4A27C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BA8A-583C-49E3-9F3F-BCAEACB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540E-7ECF-47CD-9CF5-B9330207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18675-3DD0-4FE8-9EC6-A8576152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89B53-F4E6-4167-9F97-9D4FCF08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BF77-49D3-4285-A969-9C1AD1FD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E221-C1DC-44C5-8861-F2FA32CB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6862-0C83-4F32-89FF-0195CDEE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A05C-1C63-4FDF-A507-C7066DFC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67E1-7E8D-40C6-9666-11D462ED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62E-B86E-48D2-AE5E-06B7C49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0A6C-1A07-4F29-A7FB-8A7208E8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05F0-B9DE-40B7-9621-B7B5B52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C40C-81E3-4F48-B59A-1106B9F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DBD7-5E0E-4488-9551-0F11864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CE28-D56C-4F84-9D83-1BD64437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7EFE-3D92-4DB3-83F5-BBBA60B2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24DE-7411-43AE-AADC-B84B0E3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21F-418D-4EDC-B5D8-648DDE76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F35-BFB0-483F-A2B1-E7907076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8E1-FA36-4AB8-8B43-0646186B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77E-3D7B-469B-B28D-CF57071E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5DC-F190-4081-B0F8-510D76C5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FAA-0E09-4D90-8800-3F0DC2B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139-CF5E-4310-B55B-20097E0C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BC9-FE5E-470C-8A9D-9DE6BBA8E3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5443-D7EB-42E7-A312-11D9231061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entury Gothic"/>
              </a:rPr>
              <a:t> 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4211640"/>
            <a:ext cx="6400800" cy="17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WordArt 11"/>
          <p:cNvSpPr txBox="1"/>
          <p:nvPr/>
        </p:nvSpPr>
        <p:spPr>
          <a:xfrm>
            <a:off x="1447920" y="304920"/>
            <a:ext cx="66578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ersonal Narrative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6" name="WordArt 14"/>
          <p:cNvSpPr txBox="1"/>
          <p:nvPr/>
        </p:nvSpPr>
        <p:spPr>
          <a:xfrm>
            <a:off x="2362320" y="525780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Writing Your Story</a:t>
            </a:r>
            <a:endParaRPr b="0" lang="en-US" sz="60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619360" cy="27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clusion Paragraph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topic sentence for your concluding paragrap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ap up all loose ends so that the reader doesn’t have any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last sentence should conclude the narrative.  The reader knows that the story is o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11" descr="PE01718_[1]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your paper out l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yourself 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meone el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Did the introduction capture 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?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the events in a clear order? Did I use transition word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I have details that appeal to the five sens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conclusion a clear e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the sto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I have at least five paragraph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1295280" y="228600"/>
            <a:ext cx="647712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vise and Edi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82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Now for the FUN Part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Go to http://www.storyjumper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Click on “Sign Up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Fill in all of the information and log 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Click on the “Create” orange dot on the top, left side of the scre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Click on the “Build a Book from Scratch” link about half way down the pa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Using Story Jump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Click on the slide that says “Book Cov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Give your book a Title- remember to capitalize the important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For the Attribution section, type by and your first and las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When you click on the dedication, dedicate the book to someone spe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hen you’re ready for the actual text of your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ffff"/>
                </a:solidFill>
                <a:latin typeface="Tahoma"/>
              </a:rPr>
              <a:t>Using Story Jumper Cont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When you click on page 1 or any odd numbered page, you can only insert scenes, props, or load pictures. All of that is controlled on the left-hand 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Please pick pictures that help your reader understand your stor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ffff"/>
                </a:solidFill>
                <a:latin typeface="Tahoma"/>
              </a:rPr>
              <a:t>Using Story Jumper Cont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On your even numbered pages, you will place one paragraph on each pa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n order to do this, on the left-hand toolbar, click on tex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hen click, one of the option that it gives yo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You may then click on your page and type your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f25a"/>
                </a:solidFill>
                <a:latin typeface="Tahoma"/>
              </a:rPr>
              <a:t>Have Fun Using Story Jumper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aa68"/>
                </a:solidFill>
                <a:latin typeface="Tahoma"/>
              </a:rPr>
              <a:t>The more you play with it, the easier it becomes. Just remember to SAVE AS YOU GO so you don’t lose your wor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Is an interesting story about the wri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It can be true or made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Is written in the first person (using 1</a:t>
            </a:r>
            <a:r>
              <a:rPr b="0" lang="en-US" sz="3200" spc="-1" strike="noStrike" baseline="30000">
                <a:solidFill>
                  <a:srgbClr val="fdabf5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 person pronouns like I, me, and m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Has a beginning, a middle, and an 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Presents events in a clear, chronological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bf5"/>
                </a:solidFill>
                <a:latin typeface="Tahoma"/>
              </a:rPr>
              <a:t>Uses details and descriptive words to help readers see people, places, and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143000" y="304920"/>
            <a:ext cx="74484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A Personal Narrative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Lucida Console"/>
              </a:rPr>
              <a:t>The personal narrative tells abou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good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bad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n importan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memorable ev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firs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A las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6b2"/>
                </a:solidFill>
                <a:latin typeface="Tahoma"/>
              </a:rPr>
              <a:t>Or it can be a made up story with you i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466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ffffcc"/>
                </a:solidFill>
                <a:latin typeface="Rockwell"/>
              </a:rPr>
              <a:t>Sample Prompt: Pretend that your class was on a trip to the zoo and all of the animals got loose.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 few minutes and write without stopp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bout where the story takes place.  Close your eyes and recall the place in your narrative. What do you see? Hear? Taste? Smell? Fe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bout the people who will be in your narrative.  Think about the way each one looks, acts, and speaks. Conversation or dialogue is a good way to draw your readers into the 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 the main events of the narrative along a time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13352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WordArt 27"/>
          <p:cNvSpPr txBox="1"/>
          <p:nvPr/>
        </p:nvSpPr>
        <p:spPr>
          <a:xfrm>
            <a:off x="1828800" y="4724280"/>
            <a:ext cx="549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bs the reader's attention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28"/>
          <p:cNvSpPr txBox="1"/>
          <p:nvPr/>
        </p:nvSpPr>
        <p:spPr>
          <a:xfrm>
            <a:off x="1066680" y="5867280"/>
            <a:ext cx="7124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roduces the reader to the situation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29"/>
          <p:cNvSpPr txBox="1"/>
          <p:nvPr/>
        </p:nvSpPr>
        <p:spPr>
          <a:xfrm>
            <a:off x="1523880" y="380880"/>
            <a:ext cx="6315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d or Introduction</a:t>
            </a:r>
            <a:endParaRPr b="0" lang="en-US" sz="60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256068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Appeal to the reader’s senses by writing a vivid description of the sc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Make readers wonder by asking a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Lure readers into the story quickly by using dialog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2057400" y="228600"/>
            <a:ext cx="5086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Ways to Start the Stor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427720" y="1371600"/>
            <a:ext cx="3144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upporting Paragraphs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ways begin with a topic sentence. Use specific details that support the topic sentence.  Use sensory words to keep the reader’s atten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ap up the paragraph with a concluding or transitioning sent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 to develop a minimum of  3 supporting paragraph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58164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Using transition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 Words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 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Helps to</a:t>
            </a:r>
            <a:r>
              <a:rPr b="0" lang="en-US" sz="3800" spc="-1" strike="noStrike">
                <a:solidFill>
                  <a:srgbClr val="ebf25a"/>
                </a:solidFill>
                <a:latin typeface="Lucida Console"/>
              </a:rPr>
              <a:t> guide your readers through your story!!</a:t>
            </a:r>
            <a:r>
              <a:rPr b="0" lang="en-US" sz="3800" spc="-1" strike="noStrike">
                <a:solidFill>
                  <a:srgbClr val="ffffcc"/>
                </a:solidFill>
                <a:latin typeface="Lucida Console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28951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a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 but not le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05520" y="2971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fo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cau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s a resul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sequent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380880" y="2133720"/>
            <a:ext cx="189576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ndara"/>
              </a:rPr>
              <a:t>Importanc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ndara"/>
              <a:ea typeface="Candara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5105520" y="2057400"/>
            <a:ext cx="24289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ndara"/>
              </a:rPr>
              <a:t>Cause / Effect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9144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ar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ontr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other h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the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ame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383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h 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n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838080" y="380880"/>
            <a:ext cx="6934320" cy="31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f25a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More Transition Word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ebf25a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228600" y="1676520"/>
            <a:ext cx="4257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arison / Contras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5943600" y="1523880"/>
            <a:ext cx="21906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Example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7:27:41Z</dcterms:created>
  <dc:creator>swhite</dc:creator>
  <dc:description/>
  <dc:language>en-US</dc:language>
  <cp:lastModifiedBy>Courtney Fowler</cp:lastModifiedBy>
  <dcterms:modified xsi:type="dcterms:W3CDTF">2011-11-07T20:21:18Z</dcterms:modified>
  <cp:revision>6</cp:revision>
  <dc:subject/>
  <dc:title>Personal Narrative</dc:title>
</cp:coreProperties>
</file>